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4C3-990B-4A7F-A112-0D9D2D44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680-CED8-4077-A60B-41A5C8D9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0E5-0002-476C-A4E9-AB3B34D3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397-584F-4DAB-AC60-85E232D3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C0B5D-AF2D-43B6-B39F-28385F17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8C0DA-C444-4E43-822C-33D36427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1ECFE-D935-43F3-BCF5-FE6058BC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415F2-B80B-4F5A-BD8C-FB5BA298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8EF2D-32AD-4B45-AD1A-F8FEDB0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0F32F-6AF9-4A40-98E2-9D328CC7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56517-6DFF-4B95-8140-EBA570F5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EB4-442F-4ADB-89B7-25713273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22B6B-C0DF-4CEB-852A-227FB5A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814D3-3C0D-45CE-9112-BDC3008D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66CFC-29E7-475C-9C99-5700211E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7D9EA-56FD-48EC-BC82-F72ACA6D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F1671-330E-487A-BEDE-C2BE7D4C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583-BE37-4A0D-BBD0-2EEB4F0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833-07BD-4FEE-B189-DE0CC7A6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FEE-C1B3-4D8A-BC8B-EDD65AFE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610-9770-4481-85BB-8A93E2F2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1E8-4EC7-440D-9629-1765AEA8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6CF-C6EB-46F7-A091-D55DE93A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65A-411F-4D91-87DF-5E3F6C5C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4286-3190-4799-BAEB-BE654FFD6DC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6010-9634-48C9-B36A-1DE6C7BA61A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c0ff73"/>
                </a:solidFill>
                <a:latin typeface="Tahoma"/>
              </a:rPr>
              <a:t>الضمائر</a:t>
            </a:r>
            <a:endParaRPr b="0" lang="en-US" sz="96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0000"/>
                </a:solidFill>
                <a:uFillTx/>
                <a:latin typeface="Tahoma"/>
              </a:rPr>
              <a:t>الضمير المستتر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0000"/>
                </a:solidFill>
                <a:uFillTx/>
                <a:latin typeface="Tahoma"/>
              </a:rPr>
              <a:t>يستتر الضمير وجوبًا إذا قـُدِّر بـ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أنا :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4000" spc="-1" strike="noStrike">
                <a:solidFill>
                  <a:srgbClr val="ffff66"/>
                </a:solidFill>
                <a:latin typeface="Tahoma"/>
              </a:rPr>
              <a:t>أعلم أن الله على كلّ شيءٍ قدير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أنت  :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ahoma"/>
              </a:rPr>
              <a:t>انتبه لما يُقال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 نحن :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4000" spc="-1" strike="noStrike">
                <a:solidFill>
                  <a:srgbClr val="ffff66"/>
                </a:solidFill>
                <a:latin typeface="Tahoma"/>
              </a:rPr>
              <a:t>نتعلم و نجتهد لنرتقي بأنفسنا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0000"/>
                </a:solidFill>
                <a:uFillTx/>
                <a:latin typeface="Tahoma"/>
              </a:rPr>
              <a:t>يستتر الضمير جوازًا إذا قُدّر بـ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هو :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4000" spc="-1" strike="noStrike">
                <a:solidFill>
                  <a:srgbClr val="ffff66"/>
                </a:solidFill>
                <a:latin typeface="Tahoma"/>
              </a:rPr>
              <a:t>الفوز يسعى نحو من يسعى جاهدًا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هي :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ahoma"/>
              </a:rPr>
              <a:t>الجنة أُعِدّت للمتقين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ff66"/>
                </a:solidFill>
                <a:uFillTx/>
                <a:latin typeface="Tahoma"/>
              </a:rPr>
              <a:t>الضمائر المنفصلة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0000"/>
                </a:solidFill>
                <a:uFillTx/>
                <a:latin typeface="Tahoma"/>
              </a:rPr>
              <a:t>أولاً : ضمائر الرفع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Tahoma"/>
              </a:rPr>
              <a:t>نحن    أن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Tahoma"/>
              </a:rPr>
              <a:t>هو     هي     هما     هم     هن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Tahoma"/>
              </a:rPr>
              <a:t>أنت    أنتِ    أنتما    أنتم     أنتن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b80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66"/>
                </a:solidFill>
                <a:latin typeface="Tahoma"/>
              </a:rPr>
              <a:t>أنا ابن جلا و طلاّع الثناي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66"/>
                </a:solidFill>
                <a:latin typeface="Tahoma"/>
              </a:rPr>
              <a:t>                       متى أضع العمامة تعرفوني</a:t>
            </a:r>
            <a:r>
              <a:rPr b="0" lang="ar-SA" sz="4400" spc="-1" strike="noStrike">
                <a:solidFill>
                  <a:srgbClr val="006b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0000"/>
                </a:solidFill>
                <a:uFillTx/>
                <a:latin typeface="Tahoma"/>
              </a:rPr>
              <a:t>ثانيًا : ضمائر النصب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Tahoma"/>
              </a:rPr>
              <a:t>إيانا    إيا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Tahoma"/>
              </a:rPr>
              <a:t>إياك    إياكِ    إياكما     إياكم     إياكن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Tahoma"/>
              </a:rPr>
              <a:t>إياه     إياها    إياهما    إياهم     إياهن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b80"/>
                </a:solidFill>
                <a:latin typeface="Tahoma"/>
              </a:rPr>
              <a:t>   </a:t>
            </a:r>
            <a:r>
              <a:rPr b="0" lang="ar-SA" sz="4400" spc="-1" strike="noStrike">
                <a:solidFill>
                  <a:srgbClr val="ffff66"/>
                </a:solidFill>
                <a:latin typeface="Tahoma"/>
              </a:rPr>
              <a:t>لقد أحبّ حرّةً معطار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66"/>
                </a:solidFill>
                <a:latin typeface="Tahoma"/>
              </a:rPr>
              <a:t>                  إياكِ أعني و اسمعي يا جار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66"/>
                </a:solidFill>
                <a:latin typeface="Tahoma"/>
              </a:rPr>
              <a:t>( إياك نعبد ، و إياك نستعين )</a:t>
            </a:r>
            <a:r>
              <a:rPr b="0" lang="ar-SA" sz="4400" spc="-1" strike="noStrike">
                <a:solidFill>
                  <a:srgbClr val="006b80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0000"/>
                </a:solidFill>
                <a:uFillTx/>
                <a:latin typeface="Tahoma"/>
              </a:rPr>
              <a:t>الضمائر المتصلة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cc0000"/>
                </a:solidFill>
                <a:uFillTx/>
                <a:latin typeface="Tahoma"/>
              </a:rPr>
              <a:t>أولاً : ضمائر الرفع المتصل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ahoma"/>
              </a:rPr>
              <a:t>واو الجماعة :</a:t>
            </a:r>
            <a:r>
              <a:rPr b="1" lang="ar-SA" sz="3600" spc="-1" strike="noStrike">
                <a:solidFill>
                  <a:srgbClr val="006b80"/>
                </a:solidFill>
                <a:latin typeface="Tahoma"/>
              </a:rPr>
              <a:t>  </a:t>
            </a: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( إن الذين آمنوا و عملوا الصالحات..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  أُذِن للذين أُخرِجوا من ديارهم بغير حق أن يقاتلو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  أحفاد القردة و الخنازير صاروا يعيثون في الأرض فسادًا بسبب بعد المسلمين عن دينه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ahoma"/>
              </a:rPr>
              <a:t>ألف الإثنين :</a:t>
            </a:r>
            <a:r>
              <a:rPr b="1" lang="ar-SA" sz="3600" spc="-1" strike="noStrike">
                <a:solidFill>
                  <a:srgbClr val="006b80"/>
                </a:solidFill>
                <a:latin typeface="Tahoma"/>
              </a:rPr>
              <a:t> </a:t>
            </a: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( إن تتوبا إلى الله فقد صغت قلوبكما 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ahoma"/>
              </a:rPr>
              <a:t>ياء المخاطبة :</a:t>
            </a:r>
            <a:r>
              <a:rPr b="1" lang="ar-SA" sz="3600" spc="-1" strike="noStrike">
                <a:solidFill>
                  <a:srgbClr val="006b80"/>
                </a:solidFill>
                <a:latin typeface="Tahoma"/>
              </a:rPr>
              <a:t> </a:t>
            </a: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أصبح السفح ملعبًا للنسور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                      فاغضبي يا ذرى الجبال و ثور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نون النسوة :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إن العيون التي في طرفها حورٌ     قتلنـنـا ثم لم يحيـيـن قتـلانا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ahoma"/>
              </a:rPr>
              <a:t>يصرعن ذا اللب حتى لا حراك به</a:t>
            </a: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    وهن أضعف خلق الله إنسانا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تاء الرفع المتحركة ( تاء الفاعل )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ahoma"/>
              </a:rPr>
              <a:t>دعوتُ الله  ـ   دُعيتُ إلى الحفل  ـ   كنتُ موجودة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لا تتصل ضمائر الرفع إلا بالأفعا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تكون في محل رفع الفاعل ، أو نائب الفاعل ، أو اسم الفعل الناسخ إذا اتصلت به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0000"/>
                </a:solidFill>
                <a:uFillTx/>
                <a:latin typeface="Tahoma"/>
              </a:rPr>
              <a:t>ثانيًا : ضمائر النصب و الجر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  ياء المتكلم    ـ    كاف الخطاب   ـ   هاء الغيب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مواضع الجر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1</a:t>
            </a: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ـ إذا اتصلت بحرف الجر : عنه  ـ  لي  ـ  ب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2</a:t>
            </a: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ـ إذا اتصلت بالأسماء : كتابها  ـ  عمركَ  ـ  صوت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مواضع النصب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1</a:t>
            </a: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ـ إذا اتصلت بالأفعال : لا تهمني القضايا الثانوية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2</a:t>
            </a: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ـ إذا اتصلت بالحروف الناسخة : ( و إنك لعلى خُلقٍ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عظيم ) ( لعلي أبلغ أسباب السماء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تسبق نون الوقاية ياء المتكلم قبل اتصالها بالكلمات لزامًا في المواضع التالية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ـ إذا اتصلت ياء المتكلم بالأفعال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يسرني فوز المجتهد ، و لا تلمني على ذل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    ( أدبني ربي فأحسن تأديبي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    انتظريني و لا تقدمي على تنفيذ المشروع بدوني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2</a:t>
            </a: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ـ إذا اتصلت ياء المتكلم بليت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4000" spc="-1" strike="noStrike">
                <a:solidFill>
                  <a:srgbClr val="006b80"/>
                </a:solidFill>
                <a:latin typeface="Tahoma"/>
              </a:rPr>
              <a:t>ليتني سمعت النصح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cc0000"/>
                </a:solidFill>
                <a:uFillTx/>
                <a:latin typeface="Tahoma"/>
              </a:rPr>
              <a:t>ثالثًا : ضمير مشترك بين الرفع و النصب و الجر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Tahoma"/>
              </a:rPr>
              <a:t>                      نـا الفاعلي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Tahoma"/>
              </a:rPr>
              <a:t>مواضع الجر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ـ إذا اتصلت بحرف الجر: يومٌ لنا و ويومٌ علين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ـ إذا اتصلت بالأسماء:جاء صبرنا بالنتيجة المرجو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   نعيب زماننا و العيب فينا     و ما لزماننا عيبٌ سوانا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Tahoma"/>
              </a:rPr>
              <a:t>موضع الرفع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إذا اتصلت بالفعل الماضي و كان مبنيًا على السكون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( و جعلـْـنا سراجًا وهاجًا ) ( عُلِّـمنا منطق الطير 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أصبحنا نعد الفوز في المباريات الرياضية نصرًا عظيمً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cc0000"/>
                </a:solidFill>
                <a:uFillTx/>
                <a:latin typeface="Tahoma"/>
              </a:rPr>
              <a:t>مواضع النصب</a:t>
            </a:r>
            <a:r>
              <a:rPr b="0" lang="ar-SA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ar-SA" sz="3600" spc="-1" strike="noStrike" u="sng">
                <a:solidFill>
                  <a:srgbClr val="cc0000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ـ إذا اتصلت بالفعل الماضي و هو مبنيٌ على الفت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جاءنا خبرٌ مهم .علـَّمتنا الحياة الاعتماد على النف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ـ إذا اتصلت بالفعلين المضارع و الأمر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   تعاملنا مديرة المدرسة بطريقةٍ جي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  ( ربنا لا تؤاخذنا إن نسينا أو أخطأنا 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   أعطِنا كتابًا مفيدًا ، و اتركنا نتعلم وحدن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ـ إذا اتصلت بالحروف الناسخة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ahoma"/>
              </a:rPr>
              <a:t>   ( إنا أنزلناه في ليلة القدر ) ليتنا  ـ  لعلنا  ـ  كأننا 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8:15:15Z</dcterms:created>
  <dc:creator>micr</dc:creator>
  <dc:description/>
  <dc:language>en-US</dc:language>
  <cp:lastModifiedBy>welcome</cp:lastModifiedBy>
  <dcterms:modified xsi:type="dcterms:W3CDTF">2008-12-09T01:40:25Z</dcterms:modified>
  <cp:revision>10</cp:revision>
  <dc:subject/>
  <dc:title>الضمائر</dc:title>
</cp:coreProperties>
</file>